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14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6E2-E57B-475C-A991-F6B22F61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E45-F503-43BE-A34E-D0F93FF8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EFE-677A-4E4C-A4A0-8EC21899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809-0753-43A5-8130-E36C5FA9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2888-B711-4909-A547-1F96C2B2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D0CF-91A2-40FB-91FA-342689F7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E61D-4629-443C-8F54-DC65A2FD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B6D0-6C26-47FE-870E-BEBA2592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1301-A9DE-4481-9721-E9927701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D8E4-9831-46ED-A72D-BBB96552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2C82-74AE-4FD6-99DD-985038A0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1A1-CF5A-4017-97FC-0D6488D0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85EB-0D9B-49E4-B648-D71BEF61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53C-2DA7-4A6D-9682-23AD042D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0097-29BD-4CD5-8D9D-A6360A32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AF34-7D16-4DF7-A624-624D3097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1C7B-8454-44D6-AC6A-D524E217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560-2528-4A47-A00B-5C2B47AA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C38-7D1D-48D6-AE62-51FD99B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280-FCC4-42BC-9E61-CB585235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801-042D-4741-9F47-0BCA494F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02E-F10E-4B95-AF12-6135BAD5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847-DE87-4FEC-AE2F-A1A0AD5F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F3B-73BE-414F-9854-9D3B7BFE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7DB3-491C-4A3C-823C-FE4FE99754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BB66-F36A-4E1B-9540-F099C5608A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igh School TV Studio and Editing Lab Quot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y Xaras Collins-Brow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echnology Integrator 6-12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esented to the School Board – April 201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dio Access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irlwind Accusonic+2 XLR Male to XLR Female Microphone Cable [6' (1.83 m)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14.95 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5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62080" y="207648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dio Access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yle-Pro PPSN811 8-Channel Balanced XLR Male to XLR Female Snake - Length 10' (3.04m) - </a:t>
            </a:r>
            <a:r>
              <a:rPr b="0" lang="en-US" sz="2300" spc="-1" strike="noStrike">
                <a:solidFill>
                  <a:srgbClr val="ffcc00"/>
                </a:solidFill>
                <a:latin typeface="Arial"/>
              </a:rPr>
              <a:t>$54.95 each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5 need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3-pin XLR Male to 3-pin XLR Female Balanced Cable - 15 ft - </a:t>
            </a:r>
            <a:r>
              <a:rPr b="0" lang="en-US" sz="2300" spc="-1" strike="noStrike">
                <a:solidFill>
                  <a:srgbClr val="ffcc00"/>
                </a:solidFill>
                <a:latin typeface="Arial"/>
              </a:rPr>
              <a:t>$15.99 each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5 need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2152800" cy="2152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43200" y="2514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ltman Micro PAR 50 Watt Tungsten PAR Light - Black (120VAC) - </a:t>
            </a:r>
            <a:r>
              <a:rPr b="0" lang="en-US" sz="2300" spc="-1" strike="noStrike">
                <a:solidFill>
                  <a:srgbClr val="ffcc00"/>
                </a:solidFill>
                <a:latin typeface="Arial"/>
              </a:rPr>
              <a:t>$ 93.50 eac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3-6 need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ltman 65Q Fresnel Light - </a:t>
            </a:r>
            <a:r>
              <a:rPr b="0" lang="en-US" sz="2300" spc="-1" strike="noStrike">
                <a:solidFill>
                  <a:srgbClr val="ffcc00"/>
                </a:solidFill>
                <a:latin typeface="Arial"/>
              </a:rPr>
              <a:t>$ 119.95 eac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2 need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50 Watt 120VA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ging Type 6" Short Throw Lens Color Fr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Cable For Theatre Lighting -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$ 119.95 ea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2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38080" y="53341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Stage Equip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udget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10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ge flo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i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able with set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een/blue scre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ws des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okcase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657600" cy="2762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0200" y="5334120"/>
            <a:ext cx="44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jeff92.org/home_page/TV_Production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Video Editing La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next series of slides will identify specific equipment for a middle/high school video editing lab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22480" y="2930400"/>
            <a:ext cx="4987800" cy="2213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1280" y="5486400"/>
            <a:ext cx="44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jeff92.org/home_page/TV_Production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w Tech Video Toaster 5 – Integrated Production Sui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T[5]™ Educational Bundle with VT[5]™ and SX-84™ -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$ 5,995.00 each Live Switch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ternet stream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itling or Character Genera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G Designer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igital Disk Recorder (VT-DDR™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xternal Controll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udio Mixer (using SX-84 expansion bo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ignal correc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roc Am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Video Sco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aveform Moni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Video Monitor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Non-linear video editing SpeedEDIT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D Video painting and ani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ura Video Paint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VD Authoring U-Lead DVD Worksho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PUT/OUTP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41008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newtek.com/vt/features.p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237024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ditional Feature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984840" cy="3016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88120" y="1828800"/>
            <a:ext cx="318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ditional Feature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5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i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by TFTV2224 22" Widescreen LCD HD TV/Monitor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200.69 each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olution:1680 x 105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SC/QAM/NTSC tun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x HDMI Built-in Stereo Spea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osed-Cap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38080" y="53341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 DVD Play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oneer DVD-V8000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-$999.00 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3316320"/>
            <a:ext cx="5181480" cy="1376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9680" y="5181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pione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TV Studio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next series of slides will identify specific equipment for a middle/high school TV studio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505320" cy="2638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49000" y="5689440"/>
            <a:ext cx="44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jeff92.org/home_page/TV_Production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ni DV/S-VHS Recor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VC SR-VS30U VS30 BRAND NEW SVHS MINI DV DUBBING VCR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1800.00 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5181480" cy="1371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5800" y="52578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0.epinions.com/prices/pr-JVC_HR-DVS3_Mini_DV_S-VHS_VC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pple iMac - </a:t>
            </a:r>
            <a:r>
              <a:rPr b="0" lang="en-US" sz="2300" spc="-1" strike="noStrike">
                <a:solidFill>
                  <a:srgbClr val="ffcc00"/>
                </a:solidFill>
                <a:latin typeface="Arial"/>
              </a:rPr>
              <a:t>$1700 eac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3-5 need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-inch: 3.06G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06GHz Intel Core 2 Du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60 x 1440 reso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GB mem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TB hard drive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x double-layer SuperDr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TI Radeon HD 4670 graphics with 256MB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924360" cy="2286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38080" y="5181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tore.appl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deo Editing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ple Final Cut Express 4 Video Editing Software for Mac OS X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157.99 each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-5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3154320" cy="3154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38080" y="53341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Equip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udget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10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res, cables, and rac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5800" y="5334120"/>
            <a:ext cx="396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saville-av-online.com/images/category_images/1177578013.4957_45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otal Cost for TV Studio/Video Editing Lab for High School Stu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"/>
              </a:rPr>
              <a:t>$49, 313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for TV studio and video editing lab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th one digital TV cam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"/>
              </a:rPr>
              <a:t>$62, 913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for TV studio and video editing la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th two digital TV cam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One-time investment with routine upgrades and maintenance every two, five, and 10 years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pared by Xaras Collins-Brow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r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IT 541 Video Commun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 Pat Wal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ring 201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tachi Z4000W Studio Camera (2 neede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TACHI Z4000W USED B-STOCK CAMERA PACKAGE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$14,600.00 e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LUD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A-Z31 CAMERA ADAPTE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UJINON A20X8.6BRM-24 ZOOM LE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U-Z1 REMOTE CCU (ORIGINAL BO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M-51 5" VIEW FINDER (ORIGINAL BOX)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-30 VIEW FINDER ADAPTE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A-Z3 TRIPOD ADAP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ORTABRACE CAMERA BAG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8 PIN CAMERA TO CCU CABLE 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CAME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CU AND 5� VIEWFINDER COME WITH A 9 MONTH WARRANTY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927080"/>
            <a:ext cx="4114800" cy="310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525780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hitachikokusai.com/supportingdocs/products/broadcast_prof_products/portable_production/Z4000W_broch1.pd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leprompter (2 neede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cue/QTV Professional Series 17" Teleprompter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$3, 949.95 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” monitor medium wide-angle hoo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’ power cable, 82’ composite c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ctronic user man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year warranty against defects in material and workmanship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8040"/>
            <a:ext cx="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44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leprompter Cont’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QStart Prompter Software Package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449.95 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48769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destal Tripods (2 neede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nten V3951-0001 Vision Ped Plus Studio Pedestal- Supports up to 66 lb (30 kg)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- $ 4,559.95 e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ad Capacity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66 lb (30 kg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owl Diameter/Thread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 mm bowl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ering Ring Diameter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3.8" (35.0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inimum Height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9.6" (75.1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ximum Height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62.8" (159.5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ight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9.7 lb (13.5 kg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arranty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 Year Warranty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lly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oorway Tracking Width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7.6" (95.6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ransit Doorway Widt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8.9" (73.3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heel Diameter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4" (10.0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heel Lock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Ye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543480" cy="3543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dio Mixing Bo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eavey PV14 Live Sound Mixer with 14 Channels and Effects Processor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 299.95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4 Input Chann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 Stereo Chann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 RQ Mic Inpu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al Effects Processo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184788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8080" y="54864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crophones - Wir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tatic CTM-44 Dynamic Handheld Microphone with On/Off Switch –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52.50 each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KG KM259/5 Extra Low Profile Tripod Mic Stand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79.95 each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0" y="3714840"/>
            <a:ext cx="2228760" cy="2228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954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crophones - Wire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mpliVox Sound Systems S1600 VHF Portable Wireless Microphone System with Lavalier Microphone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239.95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124440" cy="312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14400" y="5410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14:05Z</dcterms:created>
  <dc:creator>Xaras</dc:creator>
  <dc:description/>
  <dc:language>en-US</dc:language>
  <cp:lastModifiedBy>Xaras</cp:lastModifiedBy>
  <dcterms:modified xsi:type="dcterms:W3CDTF">2010-03-31T03:00:08Z</dcterms:modified>
  <cp:revision>48</cp:revision>
  <dc:subject/>
  <dc:title>School TV Studio and Editing Lab Quote</dc:title>
</cp:coreProperties>
</file>